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13B-11A3-49FA-AFDF-E6E9C4FA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FE3-7470-4BE9-808D-8017C3BF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4C2E-4F35-4306-BE45-0FF7D7C6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07F9-EC22-4AC4-902E-1E0552F5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E68-B900-47CE-BA36-3BE7457A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1D3-5701-4061-B1AF-4A964654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D15-ABE1-42C6-91D1-6EC3CF43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08B-88CB-4A3E-8483-D61301F5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59C-2455-4C0F-A57A-806ECBD2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6114-8A10-4134-9184-EE9B578F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E64-222A-4CE9-AB7F-AB6CBD7A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003-45B4-43B3-ABFB-3EEAB40F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0830-F135-457F-B44F-C5928CDD3A6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mbria"/>
              </a:rPr>
              <a:t>Агрессия и агрессивность. Агрессивное поведение ребенк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 flipV="1">
            <a:off x="4000680" y="6832440"/>
            <a:ext cx="357120" cy="23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67.jpg"/>
          <p:cNvPicPr/>
          <p:nvPr/>
        </p:nvPicPr>
        <p:blipFill>
          <a:blip r:embed="rId2"/>
          <a:stretch/>
        </p:blipFill>
        <p:spPr>
          <a:xfrm>
            <a:off x="1122480" y="2762280"/>
            <a:ext cx="6546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Если поведение наблюдается более 6-и месяцев и включает в себя симпто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Ребенок проявляет для своего возраста необычные частые или тяжелые вспышки гн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спорит со взросл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активно отказывается выполнять требования взрослых или нарушает их прав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амеренно делает вещи, которые досаждают другим люд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1196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Часто обвиняет других в своих ошибках или повед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Часто обидчив или ему легко досад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7. Часто сердится или негоду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8. Часто злобен или мстител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9. Часто обманывает или нарушает обещания для получения выгоды или уклонения от обязатель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Часто затевает драки (сюда не относятся драки с сестрами и братья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Использует оружие, которое способно причинить физический вред другим (клюшку, кирпич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1557360"/>
            <a:ext cx="8642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Проявляет физическую жестокость по отношению к другим людям или животным (связывает жертву, наносит порезы, ожо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арианты проявления детской агрессивност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физической агресси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(обычно активные, деятельные, целеустремленные, склонные к риску и авантюризму, честолюбивые и стремящиеся к общественному признанию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ербальной агресси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(неуравновешанные, тревожные, сомневающиеся, неуверенные, со сниженным фоном настроения, обидчивы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арианты проявления детской агрессивност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косвенной агрессии-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ребенок сплетничает, ябедничает, провоцирует сверстников  (слабый самоконтроль, импульсивность, низкая осознанность своих поступков, не задумываются о причинах своих поступков, примитивные влечения и низкие духовные интерес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360" y="1557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тремление подавлять всяческие проявления детской агрессивности.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Для большинства взрослых агрессия – насилие. Поэтому идет запрет на игры  и фантазии с проявлением враждебности.   Дети подавляют свои мысли, эмоции. Подавленная агрессия копится (не исчезает) и однажды вырывается наружу в виде яростного взры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Выход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– направлять агрессию в нужное русло, учить проявлять агрессию приемлемыми способами, учить ребенка проводить необходимую грань между допустимым проявлением агрессии и непозволительным, соизмерять силу своей агре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резмерно предупредительные родител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формируют стереотип агрессивного поведения у ребенка. Ребенок за счет агрессии получает нужный результат. При малейшем промедлении его желаний он начинает кричать, топать ногами и пр.  Стереотип закрепляясь дома, переносится в другой социу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– найти ошибки, пересмотреть стиль воспитания ребенка, формировать новый стереоти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одители эмоционально отвергают ребенка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, относятся к нему пренебрежительно, негативно или никак. Это рождает страх, потом агрессию. Оторванность (надолго) от матерей в раннем возрасте, холодность матери в отношении своего ребенка  ведет к возможности эмоциональной разрядки через агрессию и привлечении внимания. Альтернативный вариант – замкнутый, тревожный, безынициативный ребенок, готовый подчиниться всем и каждо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Попадая в ситуацию неудовлетворения своих потребностей ребенок пытается изменить ситуацию при помощи агрессивного поведения, и если это ему удается неоднократно, стереотип закрепляет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: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признать чувства ребенка, дать им выход, научить приемлемым способам, формировать у ребенка умения справится с ситуацией – внутренний самоконтр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Демонстрация агрессивного поведения со стороны родителей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. В наших детях мы больше всего не любим черты, которые нам не нравятся в нас самих. Если ребенок копирует наше поведение, то получает неодобрительные замечания ,  угрозы, наказ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: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понимание и узнавание в агрессивном поведении ребенка себ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аш ребенок   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( часто   иногда   нет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н не может промолчать, когда чем-то недовол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гда кто-то причинит ему зло, старается отплатить ему тем 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спорит, ругается со взросл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н не прочь подразнить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чень сердится, если ему кажется, что кто-то подшучивает над н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ворчл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оспринимает себя как самостоятельного и решительн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Какие дети вырастают агрессивными наиболее част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8920" y="1412640"/>
            <a:ext cx="8534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«Кумиры семьи» - выросшие без отцов, в сплошном женском окружении - маль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емьи с жестким авторитарным отцом и мягкой, уступчивой матерью (механизм идентификации с отцом)  - маль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емьи с жесткой, авторитарной матерью при мягком, уступчивом отце (срабатывает механизм идентификации с матерью) – дев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вочки, предоставленные сами себе и самостоятельно пробивающиеся в жизни (агрессивность для выжива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mbria"/>
              </a:rPr>
              <a:t>Агрессивные дети, как правило, вырастают в семьях, где дистанция между родителями и детьми огромна, где мало интересуются развитием детей, где не хватает тепла и ласки, отношение к проявлению детской агрессивности безразличное или снисходительное, где в качестве дисциплинарных воздействий вместо заботы и терпеливого объяснения предпочитают силовые методы, особенно физические наказани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опросы для себ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980640"/>
            <a:ext cx="85341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то стоит за агрессивност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чему он так себя вед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верен ли мой ребенок, что единственный путь получить желаемое – это вести себя агрессивно или таким образом он старается наказать того, на кого рассердил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умает ли он, что именно так должен вести себя чело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Знает ли он другие формы проявления гн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Могу ли я научить его другому поведению (формирование новых стереотип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Способы выражения гнева (важно, чтобы агрессия не накапливалась)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920" y="1412640"/>
            <a:ext cx="8534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Громко спеть любимую песн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метать дро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прыгать на скакал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спользуя «стаканчик для криков», высказать свои отрицательные эмо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оксерская груш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ыстрыми движениями стереть с до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обеж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жаться от по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комкать листки бумаги, выброс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делать 10-12 глубоких вдохов и выдох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риемы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8920" y="836280"/>
            <a:ext cx="8534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Формирование у себя умения прислушиваться к чувствам ребенка и описывая свое эмоциональное состояние (я сержусь, мне обидно и пр  - такие чувства естественн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Поощрять развитие умений слышать себя у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Во время агрессии ребенка ощущать собственную уверенность, амортизировать ситуацию, помня, что в основе агрессивного поведения лежит неуверенность (затем – я вижу, что ты сейчас сердишься, в таком состоянии мы не найдем решение, я предлагаю тебе успокоиться – использовать технику «заезженной пластинк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риемы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8920" y="836280"/>
            <a:ext cx="8534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Важно перенаправить агрессию в нужное русло (работа по дому, сломать палки, физическая нагрузка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Видеть внешние признаки агрессии: сдерживает дыхание, скованность в груди, напряженность в руках, сжаты кулаки, закрывает глаза и пр. – увидев проявления, спросить: «Ты сейчас сердишься, может хочешь побыть один или расскажешь, что происходи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Обучать технике «Я-высказыв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8920" y="1268280"/>
            <a:ext cx="8534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покойное отношение в случае незначительной агрессии (агрессия неопасна и объясним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- полное игнорирование реакций ребенка – весьма мощный способ прекращения нежелательного по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ыражение понимания чувств ребенка (конечно, тебе обид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ереключение внимания, предложение какого-то занятия – дви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зитивное обозначение поведения (ты злишься, потому, что ты уста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Акцентирование внимания на поступках (поведении), а не на личности – техника объективного описания поведения ребенка: как вел, что делал, какие действия совершал, без оценок, без эмоций, только конкретные факты про здесь и сейчас, без прошлых проступков. При этом важно быть заинтересованными, доброжелательными, твердыми – ребенок должен понять, что родители его любят, но против того, как он себя ведет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Контроль над собственными негативными эмоциями. Управлять своим естественными эмоциями (раздражением, гневом, возмущением, беспомощность) , сохранять доброжелательность, не подкреплять агрессивное по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Снижение напряжения ситуации. Не допускать следующего повед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вышение голоса, изменение тона на угрожающ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монстрация власти(как я скажу, так и буде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рик, негод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ые позы и жесты, сарказм, насмеш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гативная оценка личност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спользование физической си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8. Любит быть первым, командовать и подчинять себе друг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9. Неудачи вызывают у него сильное раздражение и поиски виноват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Легко ссорится, вступает в дра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Старается общаться с младшими и физически более слаб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Уверен, что любое задание он выполнит лучше все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3. Он часто теряет контроль над соб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4. Он часто винит других в своих ошиб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тягивание в конфликт посторонних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преклонное настаивание на своей право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отации, пропов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аказания или угро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бобщения типа «вы все одинаков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манды, жесткие требования, да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равнение ребенка с друг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правдания, подкупы, награ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Обсуждение проступка. Только после того, как ситуация разрешится и все успокоятся. Наедине, без свидетелей, с объективностью и спокойствием. Обсудить негативные последствия агрессивного поведения, его разрушительность для других и для самого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26920" y="1557360"/>
            <a:ext cx="7886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Сохранение положительной репутаци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7. Демонстрация модели неагрессивного по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– 1 ба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ногда – 0,5  б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т – 0 ба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ысокая агрессивность – 8-14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редняя агрессивность – 5-7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изкая агрессивность – 1-4 б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едность ценностных ориент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имитивность ценностных ориент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сутствие увлеч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зость и неустойчивость интере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изкий уровень интеллектуального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вышенная внушаем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клонность к подража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граниченность нравственных представл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Эмоциональная груб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Односторонняя самооценка (максимально положительная или максимально отрицательн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Повышенная тревож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Страх перед широкими социальными контакт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3. Эгоцентр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4. Неумение находить выход из трудных ситу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5. Преобладание защитных механизмов над другими механизмами, регулирующими по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628280"/>
            <a:ext cx="8820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6. Повышенная возбудимость нервной системы вследствие различных причин (травмы, болезн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месте с тем, среди агрессивных детей встречаются дети с высоким интеллектом, социально развитые – для них агрессивность – средство поднятия престижа, демонстрация самостоятельнос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грессивные действия выступают в качестве: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640" y="1557360"/>
            <a:ext cx="7561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. Средства достижения какой-либо значимой ц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Способа психологической разря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Способа удовлетворения потребностей в самореализации и самоутвержд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грессия, агрессивность, агрессивное поведение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я – индивидуальное или коллективное  поведение, действие, направленное на нанесение физического или психологического вреда, ущерб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ость – более сложная структура психических свойств человека, отражающая предрасположенность к агрессивным действ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ое поведение – серия агрессивных дейст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6:25:31Z</dcterms:created>
  <dc:creator>Психологи</dc:creator>
  <dc:description/>
  <dc:language>en-US</dc:language>
  <cp:lastModifiedBy>Otter</cp:lastModifiedBy>
  <dcterms:modified xsi:type="dcterms:W3CDTF">2022-01-25T07:11:35Z</dcterms:modified>
  <cp:revision>38</cp:revision>
  <dc:subject/>
  <dc:title>Агрессия и агрессивность. Особенности агрессивных детей.</dc:title>
</cp:coreProperties>
</file>